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E3E2-CDF9-4604-A13A-2AAA9454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9C9B-B146-4397-864E-B40B6952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ED32-5CDF-4597-8959-F4EE13AF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220A-2C51-4FE2-AB07-DD49EC20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BF5A-DDC1-4BAB-A45C-B37B1B9A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4FFD-9B64-4598-A030-BE6FD78B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C19F-0309-48CC-9BBA-663F0047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E186-5EEF-4A35-9B49-3B31E4C2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4BF3-61A3-436A-B58D-880AD377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B37B-6E96-4D69-A373-44147965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79C2-CD67-42A3-BFD0-C0F7360C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66BC-3F45-4598-B675-E812C02B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EB7B-8706-46F5-9953-F732C3066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rayola.com/products/list.cfm?categories=CRAYONS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crayola.com/products/list.cfm?categories=CRAYONS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eb.mit.edu/invent/iow/crayons.html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0" y="566568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Zoe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2/22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20404200">
            <a:off x="685440" y="1218960"/>
            <a:ext cx="779292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rayola Cray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Color Explosion Glow Boar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2666880" cy="2057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95480" y="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rayola Products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Crayola Pictures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3/1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hlinkClick r:id="rId3"/>
              </a:rPr>
              <a:t>http://www.crayola.com/products/list.cfm?categories=CRAY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Binney &amp; Smith"/>
          <p:cNvPicPr/>
          <p:nvPr/>
        </p:nvPicPr>
        <p:blipFill>
          <a:blip r:embed="rId1"/>
          <a:stretch/>
        </p:blipFill>
        <p:spPr>
          <a:xfrm>
            <a:off x="228600" y="152280"/>
            <a:ext cx="5181480" cy="2438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Crayon box"/>
          <p:cNvPicPr/>
          <p:nvPr/>
        </p:nvPicPr>
        <p:blipFill>
          <a:blip r:embed="rId2"/>
          <a:stretch/>
        </p:blipFill>
        <p:spPr>
          <a:xfrm>
            <a:off x="228600" y="4640400"/>
            <a:ext cx="2666880" cy="2217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Hoop boy"/>
          <p:cNvPicPr/>
          <p:nvPr/>
        </p:nvPicPr>
        <p:blipFill>
          <a:blip r:embed="rId3"/>
          <a:stretch/>
        </p:blipFill>
        <p:spPr>
          <a:xfrm rot="406800">
            <a:off x="6324120" y="2971440"/>
            <a:ext cx="2424240" cy="3567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38080" y="32004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ff00ff"/>
                </a:solidFill>
                <a:uFillTx/>
                <a:latin typeface="Arial"/>
              </a:rPr>
              <a:t>Binney 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2/28/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hlinkClick r:id="rId4"/>
              </a:rPr>
              <a:t>http://web.mit.edu/invent/iow/crayon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Arial"/>
              </a:rPr>
              <a:t>Invention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en-US" sz="4400" spc="-1" strike="noStrike">
                <a:solidFill>
                  <a:srgbClr val="9933ff"/>
                </a:solidFill>
                <a:latin typeface="Arial"/>
              </a:rPr>
              <a:t> Crayola 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Cray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Crayola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brand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crayons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were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the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first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kids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crayons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ever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Crayola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crayon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boxes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were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sold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for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just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a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nickel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name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Crayola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means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“oily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chalk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In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1972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, fluorescent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colors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were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added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meet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popular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demand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in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1987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Crayola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washable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markers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colored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pencils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were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introduced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were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instant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hit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kids,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moms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teachers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Arial"/>
              </a:rPr>
              <a:t>Inventor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9933ff"/>
                </a:solidFill>
                <a:latin typeface="Arial"/>
              </a:rPr>
              <a:t> Edward 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Binney</a:t>
            </a:r>
            <a:r>
              <a:rPr b="0" lang="en-US" sz="4000" spc="-1" strike="noStrike">
                <a:solidFill>
                  <a:srgbClr val="9933ff"/>
                </a:solidFill>
                <a:latin typeface="Arial"/>
              </a:rPr>
              <a:t> and 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Harold</a:t>
            </a:r>
            <a:r>
              <a:rPr b="0" lang="en-US" sz="4000" spc="-1" strike="noStrike">
                <a:solidFill>
                  <a:srgbClr val="9933ff"/>
                </a:solidFill>
                <a:latin typeface="Arial"/>
              </a:rPr>
              <a:t> Smi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Edward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Harold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founded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Binney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Smith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Inc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. in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late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1800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They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specialized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in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industrial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color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Later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they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began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make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slate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pencils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for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students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Edward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Harold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won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a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gold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medal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the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St.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Louis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world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Exhibition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in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1902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for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their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invention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of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the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first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dustless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chal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Binney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Smith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used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combination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of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paraffin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wax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industrial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pigments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create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crayons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that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were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kid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friend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8:31:45Z</dcterms:created>
  <dc:creator>install</dc:creator>
  <dc:description/>
  <dc:language>en-US</dc:language>
  <cp:lastModifiedBy>install</cp:lastModifiedBy>
  <dcterms:modified xsi:type="dcterms:W3CDTF">2011-03-11T18:31:04Z</dcterms:modified>
  <cp:revision>15</cp:revision>
  <dc:subject/>
  <dc:title>Slide 1</dc:title>
</cp:coreProperties>
</file>